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6F5-4C38-4DA9-93D6-C4A4397C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5C9-24C0-441F-B334-A94F4564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C51-CA2B-4E98-9D01-41DB0F62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3B0-4E7C-4601-9360-3884662B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C790-1014-4944-B1C3-3E87B8F3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CEAF-85F3-4099-B682-CFFCCB2D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ABCF-A158-4115-8C8C-AF6FD8F5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394A-B1BA-4BC7-A839-8348D395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EF4F-DAE5-4357-9040-40B2290F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F1E6-2EBC-43D8-9F5F-1864BB5A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348B-3497-43C8-BEF9-773D04C0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0E6-4B24-4FBB-BB37-503A936B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AE8-C302-476D-AB54-3ED6E315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EFD8-46EA-463A-BDA6-BAEE538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E45-54B5-47AF-8333-DF4E67C5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789B-19E9-4C8D-894E-5DBA8C81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264F-98C9-42AB-92B7-971F17FD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48D-08A6-4F51-B14B-CBA1B10F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C20-3DE2-4843-97F8-5D1B32DE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962-123A-442E-9F47-01CB7D48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E1F-DAA3-49B2-A028-1131BBCA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F84-3E19-463C-A5A1-9B02E7EF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791-858F-46DD-8AF0-9C2898D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024-E35E-4049-A4FF-4DE207A4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A402-B453-411F-A68F-2CA5A521BA94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4D6E-4E16-4C98-B09D-1F160FC094A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.nz/imgres?imgurl=http://img292.imageshack.us/img292/723/priestza9.jpg&amp;imgrefurl=http://arbroath.blogspot.com/2007_11_04_archive.html&amp;usg=__mkfinMhfLv8pOS3EjuVfKo7e2QU=&amp;h=442&amp;w=300&amp;sz=9&amp;hl=en&amp;start=5&amp;tbnid=9qJohibSo1karM:&amp;tbnh=127&amp;tbnw=86&amp;prev=/images%3Fq%3Dalcoholic%2Bpriest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.nz/imgres?imgurl=http://www.virginmedia.com/images/cleaner-housewife-g.jpg&amp;imgrefurl=http://www.virginmedia.com/jobs/features/how-much-would-housewives-earn.php%3Fssid%3D3&amp;usg=__tBpR3TcAdUXRNS8Rr6BJrb86DyQ=&amp;h=424&amp;w=283&amp;sz=20&amp;hl=en&amp;start=13&amp;tbnid=dRL0l5yw_bnhjM:&amp;tbnh=126&amp;tbnw=84&amp;prev=/images%3Fq%3Dhousewife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.nz/imgres?imgurl=http://blogs.sltrib.com/tv/uploaded_images/secret_diary_call_girl-781918.jpg&amp;imgrefurl=http://blogs.sltrib.com/tv/archive/2008_06_01_archive.htm&amp;usg=__S42nXy0Up3pxnQlaziVEHDX03e8=&amp;h=300&amp;w=460&amp;sz=16&amp;hl=en&amp;start=3&amp;tbnid=RU_tdSWc82B_xM:&amp;tbnh=83&amp;tbnw=128&amp;prev=/images%3Fq%3Dcall%2Bgirl%26gbv%3D2%26hl%3De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.nz/imgres?imgurl=http://www.larsontrainingcenters.com/images/IMAG0024.JPG&amp;imgrefurl=http://www.larsontrainingcenters.com/courses.html&amp;usg=__VzdNLC2rDsS6MuRTHhRsVcXqIA4=&amp;h=450&amp;w=600&amp;sz=35&amp;hl=en&amp;start=2&amp;tbnid=Djx_xDAXZwIn7M:&amp;tbnh=101&amp;tbnw=135&amp;prev=/images%3Fq%3Doffice%2Bclerk%26gbv%3D2%26hl%3Den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images.google.co.nz/imgres?imgurl=http://www.izzetzorlu.com/2005/Nov/15/cleaning-lady.jpg&amp;imgrefurl=http://www.izzetzorlu.com/2005-second-half.htm&amp;usg=__ZdFn-htxZwBfgo56vF3fqRgFMlw=&amp;h=700&amp;w=525&amp;sz=68&amp;hl=en&amp;start=5&amp;tbnid=ClI35IOMBQ66NM:&amp;tbnh=140&amp;tbnw=105&amp;prev=/images%3Fq%3Dcleaning%2Blady%26gbv%3D2%26hl%3Den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99cc00"/>
                </a:solidFill>
                <a:latin typeface="Tahoma"/>
              </a:rPr>
              <a:t>The Maori Jes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y James K Bax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720108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932000" y="1981080"/>
            <a:ext cx="367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First day he was arrested for having no lawful means of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3581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He was lobotomiz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410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Lobotom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cutting the connections to and from, or simply destroying, the prefrontal cortex in the bra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result in major personality changes and possible mental retard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were used in the past to treat a wide range of severe mental illnesses, including schizophrenia, clinical depression, and various anxiety disorder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Used to control min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86680" y="1413000"/>
            <a:ext cx="2857320" cy="2257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3686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Key ideas in </a:t>
            </a:r>
            <a:br>
              <a:rPr sz="4400"/>
            </a:b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The Maori Jes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Baxter was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critical of organised religion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, “respectable parish[es]”,  and puritanical, judgemental attitu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 was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moved by the suffering of the outcast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in society in NZ and had compassion on them. E.g. started Narcotics Anonymous group  in Grafton for addi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 believed the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true spirit of Christianity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was to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reach out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 and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journey with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 the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downtrodden and dispossesse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, rather than judge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Features of the po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Imagery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see following slid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Connotative language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e.g. long hair, dungarees – associations of unkempt, working class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Biblical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al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xtensive use of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parallel structures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– gives sense of a Biblical narrative  e.g.  “When he smiled/frowned/broke wind”  and  “The first day/second day”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Features of the po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one = starts fairly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neutral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, some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humour,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presents images that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clash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with our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stereotypical image of Christ/disciples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, ends on an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ominous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no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anguage – use of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NZ slang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dee, screw) Maori words (paraoa) and refers to local places (Porirua, Mt Crawfo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Use of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colloquialisms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head doctor, cops, shit) gives the poem an earthy feel and constrasts with the formality of the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Images of Jesus in the po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NZ" sz="3200" spc="-1" strike="noStrike">
                <a:solidFill>
                  <a:srgbClr val="99cc00"/>
                </a:solidFill>
                <a:latin typeface="Tahoma"/>
              </a:rPr>
              <a:t>humble, everyday Jesus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who is made </a:t>
            </a:r>
            <a:r>
              <a:rPr b="0" lang="en-NZ" sz="3200" spc="-1" strike="noStrike">
                <a:solidFill>
                  <a:srgbClr val="99cc00"/>
                </a:solidFill>
                <a:latin typeface="Tahoma"/>
              </a:rPr>
              <a:t>familiar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to us by being placed in a </a:t>
            </a:r>
            <a:r>
              <a:rPr b="0" lang="en-NZ" sz="3200" spc="-1" strike="noStrike">
                <a:solidFill>
                  <a:srgbClr val="99cc00"/>
                </a:solidFill>
                <a:latin typeface="Tahoma"/>
              </a:rPr>
              <a:t>NZ context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and being </a:t>
            </a:r>
            <a:r>
              <a:rPr b="0" lang="en-NZ" sz="3200" spc="-1" strike="noStrike">
                <a:solidFill>
                  <a:srgbClr val="99cc00"/>
                </a:solidFill>
                <a:latin typeface="Tahoma"/>
              </a:rPr>
              <a:t>Ma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.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e wore blue dungare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alking on Wellington harbou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e did no miracles.  He played the guitar sitting on the groun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Images of Jesus in the poem cont’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n touch with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creation, supernaturally powerful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ith a good sense of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 hum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.g  “when he broke wind the little fishes trembled”, “when he laughed everyone got drun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Inspired and divine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- but seen as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ma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by society and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persecute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for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.g. “On the sixth day he told the head doctor, ‘I am the Light in the Void.”  The seventh day he was lobotomize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Images of 1960s NZ socie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A sick, decayed society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.g.  “An alcoholic priest going slowly ma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A society with no compassion for the downtrod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.g.  “he was charged with being a Maori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 was arrested for having no lawful means of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A society with the wrong prior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brain of God was cut in half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ile deep civilised darknes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eaeaea"/>
                </a:solidFill>
                <a:latin typeface="Tahoma"/>
              </a:rPr>
              <a:t>Images of outcasts and misfits in society – those looked down on by ‘respectable society’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bearded, long haired Maori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wearing blue dungarees with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smelly breath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, who was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arrested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nd put in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prison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, thought to have a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mental illness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and them lobotom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Railway station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toilet clea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call girl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with no self respect (free se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non-conformist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housewife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doesn’t use contraception, doesn’t watch T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rebellious office clerk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a “traitor” to the established order, tries to set fire to govt building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old sad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queen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confused gender identi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alcoholic priest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failed his call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Your turn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do you think was Baxter’s PURPOSE in this po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ow well do you think he achieved that purpo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Stereotypical images of Jes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333960" cy="4743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467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Baxter’s Maori Jes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762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In groups, fi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ocal references - NZ people, places, words,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iblical al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cial outsiders &amp; rule-bre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igns of sickness in 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His breath smelt of mussels and parao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ood paraoa is less likely to go unnoticed. Paraoa is a bread unleavened by commercial yeasts; rather it uses wild yeasts captured and cultured with mashed potat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585880" cy="194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3221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Mt Crawfo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16000" y="198108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 2008 the Dept of Corrections shut down Mt Crawford prison and moved inmates to Rimutaka and Arohata pris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719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The dis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1484280"/>
            <a:ext cx="1676160" cy="247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789360"/>
            <a:ext cx="1744560" cy="26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8720" y="4437000"/>
            <a:ext cx="2697120" cy="1749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24360" y="1844640"/>
            <a:ext cx="2227320" cy="1666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43280" y="378936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5157720"/>
            <a:ext cx="82152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 did no miracles.  He played the guitar sitting o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a17012007-19712.jpg"/>
          <p:cNvPicPr/>
          <p:nvPr/>
        </p:nvPicPr>
        <p:blipFill>
          <a:blip r:embed="rId1"/>
          <a:stretch/>
        </p:blipFill>
        <p:spPr>
          <a:xfrm>
            <a:off x="324000" y="593640"/>
            <a:ext cx="3995640" cy="3772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324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1:07:12Z</dcterms:created>
  <dc:creator>egraham</dc:creator>
  <dc:description/>
  <dc:language>en-US</dc:language>
  <cp:lastModifiedBy>egraham</cp:lastModifiedBy>
  <dcterms:modified xsi:type="dcterms:W3CDTF">2010-03-03T22:00:50Z</dcterms:modified>
  <cp:revision>8</cp:revision>
  <dc:subject/>
  <dc:title>The Maori Jesus</dc:title>
</cp:coreProperties>
</file>